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884760" y="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2EA36-8805-4878-BEA2-32F20917A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64F83-147E-4135-87B3-51FFA7D0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02235BE-774F-4171-AF69-CDF0DB1BE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00490-DDC3-4C7D-AE1E-3F1C2DBD69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F8B9A-9A49-417E-AD03-D23566CA5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8016F8D-0F30-4933-B3CB-45FB40484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1-100 м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јвећи број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АЦИОНАРН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МЕНЉИВИ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МП који се користи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 терапијске сврхе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ради у овом опсегу индукција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Поље индукције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˃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 100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m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Microsoft YaHei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Ф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нкционишу као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улсни магнетни стимулато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с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високим нивоом магнетне индукциј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; због изузетно високе густине ЕМ поља, може у току стимулације да изазове и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мишићну контракциј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ебна погодност примене ових апарата је код: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успореног стварања калуса; остеопорозе; свих болних синдрома; пострауматских стања и спортских повреда; реуматских болесник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Microsoft YaHei"/>
              </a:rPr>
              <a:t> (и запаљенски, и дегене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B0DA4-E374-449B-AFDF-D7F74FD846F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2E949-C192-4CE9-A83B-85F53936B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3809395-A009-431C-80B4-E63EEC407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2FBE4-5C0B-49E2-A730-50514CD00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51F5A84-5E28-4874-81F0-BE9A62525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B4299-CA32-486C-95FC-E77C7672A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ABE31F7-2B95-45AC-ADED-89F3E9631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81BB2-BCFC-4425-88FF-4825BE3C7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2D81E2E-C60B-4056-BBE7-C9641E5D2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3CB4E-D6AA-4560-AAAE-3735C09CE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E3B2275-A04E-4DE6-A190-509DDC004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D585E-89DF-4E34-B53A-0ABE1404DF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E107B-A425-486B-9417-B2CA3D12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8CC6C71C-E2DD-486F-8C6E-36D19296E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74B6E-34ED-43F2-AFF4-6F050AA4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79A53A7-73C5-4166-96EE-D8864E4F1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126B0-3E83-4513-9796-53D60E52B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CB35466-0F15-48A3-A0EC-7249D6901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43A6D-6309-4C91-BE4D-E8EA46F6A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465A144-5D9C-44E2-A3E0-066811B9E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EBDA1-12EF-4FE4-86B4-BF288A2BCD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8E300-5654-421C-A55F-330BECE33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9923E70-DE53-4532-99C4-937AB6016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5CBC5-1EC6-4473-979A-C2A79D3B5C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56898-E83A-45CE-B9CF-15CC13E96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E4A5E43-A5F9-4AA6-8453-9654366F0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CB2D9-AA03-4990-8793-494999C63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31AA82A-633F-46DD-9346-88DF4EEA9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A9F99-F30B-4B43-B81B-CCE6AAD3F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C2D57E6-3F54-43A9-BE00-D1EF05C61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3612F-F0B4-4C0B-801E-E4EC888914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6A47B-A75F-4B14-90E8-FED70B187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47749E8-D1CE-451B-A973-3C756746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2011C-096D-40C7-A13C-082289726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5C1821F-4701-4C6B-92EF-A288B2435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DF1FE-00DD-4FFB-B0AA-BD8DE9637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04B0B38-1EE7-4239-A421-D6DD88113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55BD-F7F7-4BA4-8089-5D08EE932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784B7A3-2579-4952-A548-0C6410B58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80C4E-C976-492D-8759-05FB34688B4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0C911-F1D5-48B3-9E56-EEC50AECC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54CC6F1-121B-4380-84F3-152239728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17AA3-66E3-485B-A929-C4FFB7C80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FB68BF3-E5ED-42DC-8294-66170EA7F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5E36A-AE12-4EA6-8F32-61ED8731C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EDA5023-8176-4188-9D35-E9AD7C0AE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FB997-EFF8-42B6-9DB7-F500CEAD20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15A08-A2BF-4F53-BA7A-5AC8CA1AB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CC457219-2663-46A1-9D86-4F62BB2CC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7B19D-380F-40E5-9433-C897994392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FB970-C2E6-4D0D-A93A-9512B7146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9468B18-2D3C-4FEF-95BE-A39DF0213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EACC5-14E8-4FC2-8B58-5CA99DCFA6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D2A3D-F41D-4455-BBA1-0862E4F18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7BE6A2C-39BC-44B0-ADDC-96A389120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F0A5E-06DD-4337-B394-3A9A85F05F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565CC-B54D-4176-BC59-5C7DEC644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399B5C2-7AFC-47BC-8982-DAA2B3215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B37D9-F2DA-4E8B-8F03-428870F603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D6C4D-B1BD-411C-ACFE-958C5984B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6FE6261-C675-47F9-BDCF-4541E0A12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49076-5647-4C8A-B52C-B239367FDA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07C89-C37B-4FE3-A69F-8CB2C37C1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F8F2F17A-1F03-475B-9FCD-86751ED1E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EBFABB-4365-4C66-9A0F-B16FFFB9AD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BD537-FE94-4E94-837D-415BA5A4B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94126BC-7FB2-45D4-A259-3F9D19562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AA91C-BFEC-43D5-9E38-E93BF5D272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43DB7-7795-4D05-8A34-B5E5298C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30421E0E-84B0-4659-AC56-297DAF749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29094-1442-4744-B4CD-7F9939C286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2013A-8509-41B3-9783-BC00EA270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E179265D-5177-4DA4-8328-4B1E3F6D4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C82C3-4D3D-4679-B13B-638A67EA7A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866DF-FA4A-4863-B738-00610B97E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C922D3A-113E-45B2-ABD5-EFAF12B2B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FA0EA-AA79-47AC-83C1-92D2258149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558D7-7F83-4A4C-B611-9B834FD3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A8FB0B1-97AB-4F36-B43D-8F9BD521C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E40659-C44B-4C02-B72D-7EC209BBB0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ABBAE-4C05-4706-A62D-15D442AB8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2D544026-5B7E-4FA0-ABA8-FEE5AB331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CF948-6AA2-4C93-9F2E-CD9F19BD58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7F61B-85A3-4D72-94B2-DED9DFE4A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F62B089-DD6F-4AFE-AF26-7764E82FB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3EB9A-1618-42D7-A9F7-D8806D7C40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534AF-7FE0-4042-A971-7D08E754E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B40A569B-CA6C-41ED-860A-3A425F984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61A21-C1F2-427C-A3D8-B1E394550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A086997A-585F-4E27-855E-2C57312E7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1C479-CB6C-4CF6-8F6E-9AAA3B115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BEB4B9D-5CE7-4E05-A643-3C9BD91C5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4B6C1-28B1-467D-9EA4-79C7EF5A8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04C0B31C-0388-4FB9-A05E-9C66F61D0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65720-B010-4BC2-8876-FFBC43168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134DD1D-47FA-48BE-81A4-5F8D5454C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60832-99A0-4FCC-80A3-D089A9307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4B38E81F-379F-4459-A334-60D83DB5A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09D37-176A-4EC4-A5D0-1435F6187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906565F-84A1-472A-8DD3-59A57C507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B8B19-096D-4700-BBD4-CE9509D7E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DA314D4D-225D-4264-A895-93C36E3E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C13B7-4DA8-44DD-9D46-C3486E5B0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57471ED5-A8A1-4035-8C88-6E82DE231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2EBC6-85FF-4CC3-AA0D-28EC18371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3E603FB-AE9A-4DF4-98B0-07ABABEF8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F7289-AB0B-43A0-853B-BAE8054A718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78FAC-D24A-46C1-BAF1-08BBCBAA6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167DD24C-E384-4D8F-A6F0-D67E9A666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21437-2F8E-4ADD-B7D7-E53F23C7C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7F822D02-ACE1-4057-97D1-100602D1F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F6765-1017-4DFE-8F4D-4DB37BA87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6C514F33-123C-4538-87A1-A6C5CD9C5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92E88-7D36-4C6A-B64D-F0F0ABF03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Text Box 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8080" indent="-20808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8080"/>
                <a:tab algn="l" pos="665280"/>
                <a:tab algn="l" pos="1122480"/>
                <a:tab algn="l" pos="1579680"/>
                <a:tab algn="l" pos="2036880"/>
                <a:tab algn="l" pos="2494080"/>
                <a:tab algn="l" pos="2951280"/>
                <a:tab algn="l" pos="3408480"/>
                <a:tab algn="l" pos="3865680"/>
                <a:tab algn="l" pos="4322880"/>
                <a:tab algn="l" pos="4780080"/>
                <a:tab algn="l" pos="5237280"/>
                <a:tab algn="l" pos="5694480"/>
                <a:tab algn="l" pos="6151680"/>
                <a:tab algn="l" pos="6608880"/>
                <a:tab algn="l" pos="7066080"/>
                <a:tab algn="l" pos="7523280"/>
                <a:tab algn="l" pos="7980480"/>
                <a:tab algn="l" pos="8437680"/>
                <a:tab algn="l" pos="8894880"/>
                <a:tab algn="l" pos="9352080"/>
                <a:tab algn="l" pos="9601200"/>
                <a:tab algn="l" pos="10058400"/>
                <a:tab algn="l" pos="10515600"/>
              </a:tabLst>
            </a:pPr>
            <a:fld id="{98BB8836-0538-406F-A818-299D0167D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0CED5-3B28-441B-8B91-161D0395A5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66BF8FBA-69CA-4189-841D-C1ECFB245CDB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0480"/>
                <a:tab algn="r" pos="869004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C3363DB1-72B3-4185-A50A-75F1E73C2A2A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9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9360" y="4662360"/>
            <a:ext cx="9134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3760" y="2611440"/>
            <a:ext cx="913464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1584360" cy="205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escription of magnetotherapy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148428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Magnetic induction 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mT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according to international norms: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ow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10-30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igh-frequ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0,5-1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 (</a:t>
            </a:r>
            <a:r>
              <a:rPr b="1" lang="sr-Latn-CS" sz="2200" spc="-1" strike="noStrike">
                <a:solidFill>
                  <a:srgbClr val="ff0000"/>
                </a:solidFill>
                <a:latin typeface="Verdana"/>
              </a:rPr>
              <a:t>Hz</a:t>
            </a:r>
            <a:r>
              <a:rPr b="0" lang="sr-Latn-CS" sz="22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the choice depends on indic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Length of procedu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1 Тh unit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3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umber of procedure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a series: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unlimit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ute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er induction, lower ⱱ, shorter duration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hronic condi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gger induction, higher ⱱ, longer dura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0000c"/>
                </a:solidFill>
                <a:latin typeface="Verdana"/>
              </a:rPr>
              <a:t>Indication area depending on the frequ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Group 2"/>
          <p:cNvGrpSpPr/>
          <p:nvPr/>
        </p:nvGrpSpPr>
        <p:grpSpPr>
          <a:xfrm>
            <a:off x="457200" y="1484280"/>
            <a:ext cx="8140680" cy="5113080"/>
            <a:chOff x="457200" y="1484280"/>
            <a:chExt cx="8140680" cy="5113080"/>
          </a:xfrm>
        </p:grpSpPr>
        <p:sp>
          <p:nvSpPr>
            <p:cNvPr id="119" name="Rectangle 3"/>
            <p:cNvSpPr/>
            <p:nvPr/>
          </p:nvSpPr>
          <p:spPr>
            <a:xfrm>
              <a:off x="457200" y="1484280"/>
              <a:ext cx="215892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FREQUENCY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>
              <a:off x="2627280" y="1484280"/>
              <a:ext cx="5961240" cy="35712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Verdana"/>
                </a:rPr>
                <a:t>INDIC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457200" y="18504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2627280" y="18504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All types of inflamma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7200" y="221508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4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627280" y="221508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Bronchitis; Sleep disorder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457200" y="25801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6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2627280" y="25801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Hypertens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457200" y="294660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2627280" y="294660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Migraine; Poor circulation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457200" y="331308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1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2627280" y="331308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Gynecological complaint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457200" y="367632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2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2627280" y="367632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Wound healing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457200" y="4041000"/>
              <a:ext cx="215892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18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2627280" y="4041000"/>
              <a:ext cx="5961240" cy="62136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generative rheumatism; Extra-articular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457200" y="4671720"/>
              <a:ext cx="215892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2627280" y="4671720"/>
              <a:ext cx="5961240" cy="3571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457200" y="503820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27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2627280" y="503820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Delayed fracture healing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457200" y="54032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16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2627280" y="5403240"/>
              <a:ext cx="596124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Myositis, tendinitis, myalgi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457200" y="5769720"/>
              <a:ext cx="215892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32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2627280" y="5769720"/>
              <a:ext cx="5961240" cy="35532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Lymphedema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457200" y="6134040"/>
              <a:ext cx="2158920" cy="3567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640 Hz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2638440" y="6134040"/>
              <a:ext cx="5948280" cy="46332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Verdana"/>
                </a:rPr>
                <a:t>Post-traumatic conditions; Degenerative rheumatism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>
              <a:off x="26272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>
              <a:off x="457200" y="1850400"/>
              <a:ext cx="8131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>
              <a:off x="457200" y="2215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457200" y="25801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33"/>
            <p:cNvSpPr/>
            <p:nvPr/>
          </p:nvSpPr>
          <p:spPr>
            <a:xfrm>
              <a:off x="457200" y="29466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4"/>
            <p:cNvSpPr/>
            <p:nvPr/>
          </p:nvSpPr>
          <p:spPr>
            <a:xfrm>
              <a:off x="457200" y="33130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457200" y="36763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Line 36"/>
            <p:cNvSpPr/>
            <p:nvPr/>
          </p:nvSpPr>
          <p:spPr>
            <a:xfrm>
              <a:off x="457200" y="40410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457200" y="4671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Line 38"/>
            <p:cNvSpPr/>
            <p:nvPr/>
          </p:nvSpPr>
          <p:spPr>
            <a:xfrm>
              <a:off x="457200" y="503820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457200" y="54032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Line 40"/>
            <p:cNvSpPr/>
            <p:nvPr/>
          </p:nvSpPr>
          <p:spPr>
            <a:xfrm>
              <a:off x="457200" y="57697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457200" y="613404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42"/>
            <p:cNvSpPr/>
            <p:nvPr/>
          </p:nvSpPr>
          <p:spPr>
            <a:xfrm>
              <a:off x="45720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8597880" y="1484280"/>
              <a:ext cx="0" cy="50068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Line 44"/>
            <p:cNvSpPr/>
            <p:nvPr/>
          </p:nvSpPr>
          <p:spPr>
            <a:xfrm>
              <a:off x="457200" y="148428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457200" y="6500520"/>
              <a:ext cx="8131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lamm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inary tract infe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astr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p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ndovagin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stheomyel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heumatic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lammatory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)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st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lood flow disor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blood flow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nau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g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457200" y="186696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Neurological 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2637000"/>
            <a:ext cx="404028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iphe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yopath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ntral motor neuron le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degenrative, extra-articular, inflammatory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356000" y="1903320"/>
            <a:ext cx="46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ft-tissue injur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ne fractur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ed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t-traumatic pa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mplanted cardiac pace-mak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due to interference with other electronic devices)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only absolute contraindication!!!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Acute deterioration of vital functions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the only absolute contraindication!!!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of the possibility of rapid partition of the embryonic tissue and because of changes in the blood flow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during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Јuvenile 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Serious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circulatory problems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which include atherosclerosis and thromb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type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um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of the direct effect of MF on the cell growth, but also because of promotive thermal effect on proliferation of many malignant cells;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eatment of rheumatoid artriti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 strong high-frequency fields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-30МHz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leads t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ep tissu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ting and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ctivation of the enzyme collagenase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affect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breakdown of cartill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the treated joi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365040" y="13716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mediate application decreases time of the treat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umerous indica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small number of contraindication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n-contact method (clothes, plaster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thermal (metal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TC, PTG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ne antenna for two pati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isadvantag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Humans do not have receptors for M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Milder effect – longer treat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Various effects in pati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ck of liter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cedure risk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It requires careful dos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can cause complications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in case of an inadequate dos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500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T–1 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ⱱ=50–60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airement of the organism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uring application of Мтh, radiation therapy is forbidden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Not above the carotid sinu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 occlusive arterial disea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aution in: nephrolythiasis and urolythiasi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ide-effects of М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: sedation, mild anxiety and disturbance of daily bioloical rhythm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-36360" y="4226040"/>
            <a:ext cx="93056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52280" y="2427120"/>
            <a:ext cx="9134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 use of constant and variable magnetic field for the purposes of prevention, treatment and rehabilitation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The use of different types of magnetic field, which by having an effect on the patient's tissue cause different therapeutic effects.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important to select the type, dose and method of magnetotherapy that will successfully interfere with the magnetic biopotential of an individual and their geomagnetic fie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(Djurovic, 2014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Magnetis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— a phenomenon which allows objects to attract or repel each oth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EFINITION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ght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plification by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imulated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mission of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di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 of a very focused beam of coherent monochromatic 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pontaneous and stimulated radiation (photon emmis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Characteristics of laser lig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704880" y="2108160"/>
            <a:ext cx="432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her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all photons in the same phase, of the same E and the same direction of spreadin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Monochroma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one color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Directionality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minimal diffrac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rcRect l="46072" t="0" r="9253" b="50023"/>
          <a:stretch/>
        </p:blipFill>
        <p:spPr>
          <a:xfrm>
            <a:off x="5370480" y="1498680"/>
            <a:ext cx="32590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5303880" y="3017880"/>
            <a:ext cx="3686040" cy="2741400"/>
            <a:chOff x="5303880" y="3017880"/>
            <a:chExt cx="3686040" cy="2741400"/>
          </a:xfrm>
        </p:grpSpPr>
        <p:pic>
          <p:nvPicPr>
            <p:cNvPr id="194" name="Picture 5" descr=""/>
            <p:cNvPicPr/>
            <p:nvPr/>
          </p:nvPicPr>
          <p:blipFill>
            <a:blip r:embed="rId2"/>
            <a:stretch/>
          </p:blipFill>
          <p:spPr>
            <a:xfrm>
              <a:off x="5303880" y="3017880"/>
              <a:ext cx="338148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7524720" y="3227400"/>
              <a:ext cx="1258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Laser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Text Box 7"/>
            <p:cNvSpPr/>
            <p:nvPr/>
          </p:nvSpPr>
          <p:spPr>
            <a:xfrm>
              <a:off x="7578720" y="4246560"/>
              <a:ext cx="1411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rmal light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Basic element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rcRect l="1371" t="14983" r="1638" b="3322"/>
          <a:stretch/>
        </p:blipFill>
        <p:spPr>
          <a:xfrm>
            <a:off x="1428840" y="2357280"/>
            <a:ext cx="6286320" cy="328644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3"/>
          <p:cNvSpPr/>
          <p:nvPr/>
        </p:nvSpPr>
        <p:spPr>
          <a:xfrm>
            <a:off x="2143080" y="300024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571760" y="2428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13280" y="2625840"/>
            <a:ext cx="138636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Impermeabl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mirr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2916360" y="2643120"/>
            <a:ext cx="21286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pump (source of energy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5072040" y="2533680"/>
            <a:ext cx="185724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Semi-permeable mirro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714760" y="4286160"/>
            <a:ext cx="257148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Active medium in the resonance box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858000" y="3643200"/>
            <a:ext cx="1571760" cy="38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  <a:effectLst>
            <a:outerShdw dist="20160" dir="5400000" blurRad="0" rotWithShape="0">
              <a:srgbClr val="ffffff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3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Verdana"/>
              </a:rPr>
              <a:t>LASER BEAM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wavelength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9280" y="2421000"/>
            <a:ext cx="44658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visible light from 400-78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invisible light fr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80-15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On the basis of the active material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5014800" y="2349360"/>
            <a:ext cx="36720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lid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Flu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mi-conduct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Types of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According to the way of emiss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According to excitation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665600" y="242100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Opt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With the use of self-dischar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Electroioniz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Chemic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ecombin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in medic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95280" y="134136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ith coagulative effe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&lt; 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rapeutic (biostimulativ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60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1100 n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Lasers with COAGULATIVE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468360" y="141300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</a:rPr>
              <a:t>&lt; 600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bsorbed in pigments (melanin and hemoglob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Accumulate Е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ctivate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r –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stop bleeding and obliterate small blood vessels (eye, skin, retina), tattoo removal, removal of the nevi, veruce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To stop bleeding in the digestive system, remove polypes and neoplasms of the digestive system, respiratory and urogenital syste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Argon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Neodium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URGICAL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&gt;1100 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sorbed in water, instant evapo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ser scalpel”: bloodless, narrow, sterile incis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surgical treatments of the parenchymal organs,  in purulent diseases, malignant diseases and coagulation disord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2 las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(biostimulative)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од </a:t>
            </a: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600-1100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n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Lasers of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low power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(cold lasers);”soft“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ome of them have only one, and some have more than one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of the outpu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t is slightly absorbed in water and pigments, thus the tissue penetration is deeper – biostimul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Helium-ne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He-Ne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galium-arsen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Ga-As)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, semi-conducto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echanism of action of biostimulative la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exact mechanism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as not been yet completely determine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although there is very intensive research being done in this field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ll effects of the laserotherapy can be divided into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rimar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   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Verdana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ndirect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istory of the use of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500040" y="1484280"/>
            <a:ext cx="814392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reek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(province Magnesia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l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gyptians, the Chine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VIII century Glaisault 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rst artificial magne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e No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was the first to present artificial magnets to the medical worl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Majority of European countries 1960-198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the USA in the 80's — devices for therapeutic purpo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64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Slovenia (Maribor) for the first time in physical medic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IMARY (DIRECT)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 Biochemical effec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Activ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enzyme substances;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neurotransmit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Relea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colloid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 Bioelectr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ormalization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membranous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the cel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 Bioenergetic effec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timula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ATP synthe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stimulation of energetic proces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457200" y="274680"/>
            <a:ext cx="7570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RECT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457200" y="1484280"/>
            <a:ext cx="81439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primary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crocirc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the cellular excahnge of materi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imulation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ellular metabol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GENERAL THERAPEUTIC effects of biostimulative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ise from the described biological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i-edematou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Verdan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iomod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ffec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t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ifi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m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“rapid” А-</a:t>
            </a:r>
            <a:r>
              <a:rPr b="0" lang="el-GR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ber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dulates “gate control“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chanism of pain impulse transmission in the posterior horns of the spinal cord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rve conductibil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stimulates 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dogenous opioid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– enkephalins and endorphi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u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yperpolariz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cellular membrane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in tresho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1. Analgesic effect of laserotherapy -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 has a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ndirect effec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 pain reduc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muscl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ircula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blood and lymph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reases or eliminat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ema and ischemi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tissues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gogenous substa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2. Anti-inflammatory and 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3. Antiedematous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duces the releas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diators of inflama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(histamin, IL-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bradikinin, PG-E2, TNF-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bstance P)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ircul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blood and lymph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orption of extravasate and elimination of metabolite; reduction of edema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es unspecific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umoral defen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ncrease of the synthesis of complements, lysosomes and interpheron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phagocyte activity of neutrophil Le and macrophage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tivation of Т and B lymphocyt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4572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4. Biomodulation (biostimulative) effect of laser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he exchang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ugh the cellular membrane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itos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ynthesis of DNA and RN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АТ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itochondrias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hesis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llag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number of collagen fibers,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s the effect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nzym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the basal epithelial lay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 techniqu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457200" y="1413000"/>
            <a:ext cx="6130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Scanning 15-30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 grip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poi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Laseropuncture (over the reflexogenic zon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468360" y="1341360"/>
            <a:ext cx="81439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-1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spasmolytic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до 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algesic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300-6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око 6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edemato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0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nti-inflammatory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recommended doses which are reduced by 30% after 3 - 5 day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Output pow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 - 10 mW by acupunct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50 - 70 mW scann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 radiation (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W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 –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ength of radiation directed at a certain surface;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ry important for achieving a biological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DOS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(density of Е)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rom 0,01 – 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stimulative effect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˃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 J/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Microsoft YaHei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bioinhibitory effe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DURATION TIM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- 10 min, maxim. 30 m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ources of magne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24000" y="1484280"/>
            <a:ext cx="82771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constant 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natural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magnetopho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orseshoe magne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he use of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electromagnetic field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apparatus) which is created around the conductor when electricity flows through i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ow-frequency 2-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47800" indent="-4572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igh-frequency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100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z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772400" y="4206960"/>
            <a:ext cx="1249200" cy="251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7164360" y="2637000"/>
            <a:ext cx="144000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Final effect of 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484280"/>
            <a:ext cx="82915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inal effect of therapy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s significantly determined b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224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ite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application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ethod of radiation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of the aimed tissue,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number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an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of procedures, as well 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athological substrate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eing affected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984960" y="537372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Radiation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442840" y="5376960"/>
            <a:ext cx="1585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Tissue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50" name="AutoShape 5"/>
          <p:cNvCxnSpPr>
            <a:stCxn id="249" idx="1"/>
          </p:cNvCxnSpPr>
          <p:nvPr/>
        </p:nvCxnSpPr>
        <p:spPr>
          <a:xfrm flipH="1">
            <a:off x="4903200" y="5651280"/>
            <a:ext cx="454680" cy="1362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1" name="AutoShape 6"/>
          <p:cNvCxnSpPr>
            <a:endCxn id="249" idx="1"/>
          </p:cNvCxnSpPr>
          <p:nvPr/>
        </p:nvCxnSpPr>
        <p:spPr>
          <a:xfrm flipV="1">
            <a:off x="2555640" y="5651640"/>
            <a:ext cx="2802600" cy="133560"/>
          </a:xfrm>
          <a:prstGeom prst="straightConnector1">
            <a:avLst/>
          </a:prstGeom>
          <a:ln cap="sq" w="38160">
            <a:solidFill>
              <a:srgbClr val="f0000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2" name="AutoShape 7"/>
          <p:cNvCxnSpPr>
            <a:endCxn id="249" idx="1"/>
          </p:cNvCxnSpPr>
          <p:nvPr/>
        </p:nvCxnSpPr>
        <p:spPr>
          <a:xfrm flipV="1">
            <a:off x="5130360" y="5651280"/>
            <a:ext cx="2293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253" name="Text Box 8"/>
          <p:cNvSpPr/>
          <p:nvPr/>
        </p:nvSpPr>
        <p:spPr>
          <a:xfrm>
            <a:off x="3189960" y="5423040"/>
            <a:ext cx="1155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108600" y="5811840"/>
            <a:ext cx="145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685800" y="2781360"/>
            <a:ext cx="7772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HIGH-INTENSITY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LASER THERAPY</a:t>
            </a:r>
            <a:br>
              <a:rPr sz="2800"/>
            </a:b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- HIL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igh-intensity la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Output pow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on average 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30-50 times highe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comparison with conventional “cold“ therapeutic las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Optimal ratio of absorption and penetr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Unlimited depth of the tissue penetrat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mechanical waves which block the pain are produced in the subcutaneous tissu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Biostimulation +</a:t>
            </a:r>
            <a:r>
              <a:rPr b="1" lang="sr-Latn-R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200" spc="-1" strike="noStrike" u="sng">
                <a:solidFill>
                  <a:srgbClr val="ff0000"/>
                </a:solidFill>
                <a:uFillTx/>
                <a:latin typeface="Verdana"/>
              </a:rPr>
              <a:t>photomechanical stimul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 u="sng">
                <a:solidFill>
                  <a:srgbClr val="000000"/>
                </a:solidFill>
                <a:uFillTx/>
                <a:latin typeface="Verdana"/>
              </a:rPr>
              <a:t>Photomechanical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wave stimulates free nerve endings and other pain receptors in the subcutaneous tissu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it blocks the pathways of pain transmission in the nervous system</a:t>
            </a: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mproves local microcirculation and lymph drain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 main medicinal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ong and long-lasting 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inflammato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200000"/>
              </a:lnSpc>
              <a:spcBef>
                <a:spcPts val="10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-edematou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inuous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Optimal therapeutic effect 810/98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or 1064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Deep penetration (10-12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!) power up to 12W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out side eff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se m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By wavelength of ~ 1000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n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Frequency of the pulse repetition 10-30 H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Verdana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Immediate relief from pai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reatment lasts from 10-20 </a:t>
            </a:r>
            <a:r>
              <a:rPr b="0" lang="de-DE" sz="2300" spc="-1" strike="noStrike">
                <a:solidFill>
                  <a:srgbClr val="000000"/>
                </a:solidFill>
                <a:latin typeface="Verdana"/>
              </a:rPr>
              <a:t>mi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575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herapy usually consists of 10-15 appointments.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ST-TRAUMATIC CONDITIONS AND SPORTS INJURIES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stortion, contusion, tendinitis, tendovaginitis, muscle rupture, entesitis and entesopathy, fresh fract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ANGES ON BLOOD VESSEL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arices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lcus varicosum, Mb. Raunauy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KIN DISEASES: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czema, acne, furunculi, herpes simplex, herpes zoster, anal fissures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YNECOLOGY AND UR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nexitis, endocervicitis, cervical erosions, mastitis, urethritis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PHTHALMOLOGY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aucoma, retinal ablation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HEUMATIC DISEASES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lammatory diseases in remission, degenerative, extra-articular.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2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ildren – the area of the bone epyphises during the  growth perio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ye are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area of the thyroid gland, gonades and other endocrine gland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gnancy (abdomen and lower back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ce maker (ches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rombosis and thrombophleb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pilepsy (head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rotective meas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Glasses with a special filter (cataract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 room with good and uniform lighting, without mirrors, without lacquered surfac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Do not look into the laser beam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rimary effects of the 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netic field causes vibrations of cellular membrane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, thei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yperpolarization</a:t>
            </a:r>
            <a:r>
              <a:rPr b="1" i="1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d the increased activity of ionic pump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Periodic permeability of the cellular membrane without energy cos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pO2 up t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200%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crease of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AT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→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improves the function of cells and tissu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econdary biological effects of the magnetic fiel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sodilation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(increase of circulatio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edemato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ti-inflammatory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roved tissue heal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rease of blood viscosity (antithrombotic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rheological blood characteristic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dativ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endocrinal function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Electromagnetic therapeutic appara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79280" y="1484280"/>
            <a:ext cx="5472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magnetic therapeutic apparatus consists of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Control uni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generator of electrical impulses)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an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enoi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wire in the shape of coil through which electricity flows) - in the form of plates, antennas, hoops, mattresses, cushions, cuffs, special chai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echnique of 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1700280"/>
            <a:ext cx="81439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oc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injured part of the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flexive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on the vegetative gangl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neral –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affects the whole body, except the he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274680"/>
            <a:ext cx="7067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Magnetic fiel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457200" y="1484280"/>
            <a:ext cx="6059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Е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lectric field strength;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МF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induction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;                                                                                В [Т; mT]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gnetic field line densit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agnetic fiel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u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ce of action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 the MF on surrounding object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2440" y="798480"/>
            <a:ext cx="180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10:32Z</dcterms:modified>
  <cp:revision>928</cp:revision>
  <dc:subject/>
  <dc:title>PowerPoint-Präsentation</dc:title>
</cp:coreProperties>
</file>